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12.png" ContentType="image/png"/>
  <Override PartName="/ppt/media/image41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39.jpeg" ContentType="image/jpeg"/>
  <Override PartName="/ppt/media/image4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A4D0-7F95-4E69-BD2B-43AB8FF2F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FA9A-2AAC-419C-86EA-D523D5517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E89-49CE-4CF3-81F3-E7D94E5C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873-D471-4E11-9F9C-6E82CC17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7AC-44AF-4559-82A1-FB04CAB3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3D8-F28C-4627-AD11-2B39972F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D16A-6F4E-40C0-A5F6-769CF073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5F38-131D-44F2-9BF3-81A8C421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66A4-73E2-48F4-84C4-E1F4C88A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E06C-7A78-4DB1-A176-7AEAF783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E3DD-068C-42D4-92C6-32A26803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AD85-FFA0-4CB0-8074-A56E447A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49D0-50E1-445A-B9DE-E6FDE90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FB6-CA6C-46BA-A9C0-EAEE6D65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1CBC-3FFB-4A73-A466-72B8770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742D-8040-4733-BFD5-A951BE6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8281-610A-47AB-AF81-6CD71BE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25C0-1D61-482B-8CE5-75341538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C214-7706-4336-A10C-4A8E262A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C6F-6895-44D6-9D11-519CEF8A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C6A-9344-4785-8EA8-B879CB2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192-89D2-44DB-AF03-B222F585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CEC-4181-4A01-B743-0A94F46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8D8-D9F9-46D4-BBFC-91B6943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DB9-0322-4709-9340-79727C4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5CB-BBB3-4211-90CA-847FDAC4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5C78-4754-4E88-962E-1080BC6236A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5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2BC3-8875-45BD-B450-8A7501C675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3C4F-817C-4640-A654-E803A4ED3C3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background with 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92AE-2E39-46ED-9D00-DA88397006DE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12" descr="sleep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3F7B-1D9F-4E33-B48E-41415D18CFAF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143" name="Picture 18" descr="family_baby_reise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4" name="Picture 14" descr="babys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5" name="Picture 16" descr="SAVE-A-BABYS-LIF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6" name="Picture 20" descr="maus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7" name="Rectangle 21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</p:txBody>
      </p:sp>
      <p:grpSp>
        <p:nvGrpSpPr>
          <p:cNvPr id="149" name="Group 22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150" name="Rectangle 23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402E3EB-C205-4097-ABB3-A455BCE5AA3A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1" lang="en-US" sz="14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755-73D7-4D26-BD43-502894C8100E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153" name="Picture 6" descr="AnneMary9991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1" lang="en-US" sz="4000" spc="-1" strike="noStrike">
              <a:solidFill>
                <a:srgbClr val="ffff00"/>
              </a:solidFill>
              <a:latin typeface="BernhardMod B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4468-CF79-4310-A5D7-EDA7A985B166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157" name="Picture 6" descr="9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4741-9917-4E3A-84A1-35F5A961EC0C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159" name="Picture 8" descr="adults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61" name="Object 15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79AE-2D4A-47C9-8938-912DB39A7102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164" name="Picture 8" descr="be-sleep-sack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1" lang="en-US" sz="5400" spc="-1" strike="noStrike">
              <a:solidFill>
                <a:srgbClr val="ffff00"/>
              </a:solidFill>
              <a:latin typeface="BernhardMod BT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167" name="Rectangle 11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64E170-212E-42CF-8CE0-F4C0EEDD7FF5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1" lang="en-US" sz="12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</p:grpSp>
      <p:sp>
        <p:nvSpPr>
          <p:cNvPr id="169" name="Rectangle 3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3F66-F54E-4DA9-B617-89CFDA020A05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sleep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3FC6-1A3F-4F7C-A684-E2A59A5B177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76" name="WordArt 5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178" name="Rectangle 7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00"/>
                </a:solidFill>
                <a:latin typeface="BernhardMod BT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</p:grpSp>
      <p:pic>
        <p:nvPicPr>
          <p:cNvPr id="180" name="Picture 10" descr="Men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8EC7-5724-4295-A84C-A60039982E3D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83" name="WordArt 3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185" name="Rectangle 5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00"/>
                </a:solidFill>
                <a:latin typeface="BernhardMod BT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</p:grpSp>
      <p:pic>
        <p:nvPicPr>
          <p:cNvPr id="187" name="Picture 8" descr="Men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D024-9DE7-4A47-9CC3-856CAE12AD7E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Picture 4" descr="Pit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BCD3-D2AC-46E5-A7E9-59CBD76BD313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Otdih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C3EF-A3F7-4CF2-98DE-64B9C45F50AA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195" name="Rectangle 15"/>
            <p:cNvSpPr/>
            <p:nvPr/>
          </p:nvSpPr>
          <p:spPr>
            <a:xfrm>
              <a:off x="6926040" y="4119480"/>
              <a:ext cx="19584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  <p:grpSp>
          <p:nvGrpSpPr>
            <p:cNvPr id="196" name="Group 14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197" name="Oval 13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BernhardMod BT"/>
                </a:endParaRPr>
              </a:p>
            </p:txBody>
          </p:sp>
          <p:pic>
            <p:nvPicPr>
              <p:cNvPr id="198" name="Picture 12" descr="sleep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D915-859A-47A5-AD33-7D18449C7090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200" name="Picture 11" descr="_1464279_itc300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67B3-AC41-4318-B907-DF26D604DD99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203" name="Picture 19" descr="pd_menshealth990528_h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04" name="WordArt 5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2FF0-5245-4887-B30E-138E4CE192DC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11" descr="Br-22da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Br-18m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Clock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A21-6C48-486A-81ED-CC721D5B4202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212" name="Picture 11" descr="bath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7C5F-267C-4B2D-87ED-48EB4D4CE739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WordArt 9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7" name="Group 20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218" name="Picture 11" descr="wod10755-1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19" name="Picture 13" descr="coffee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0" name="Picture 16" descr="long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1" name="Picture 19" descr="drugs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7A74-E0C6-4F50-84B7-E43BE28E45A7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16002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762120" y="6094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6"/>
          <p:cNvSpPr/>
          <p:nvPr/>
        </p:nvSpPr>
        <p:spPr>
          <a:xfrm>
            <a:off x="0" y="399564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ernhardMod BT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1" lang="en-US" sz="3600" spc="-1" strike="noStrike">
              <a:solidFill>
                <a:srgbClr val="ffff00"/>
              </a:solidFill>
              <a:latin typeface="BernhardMod B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70D3-67D2-461C-91D8-97C721130E56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227" name="Picture 5" descr="wintercollage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8670-5A55-4A5E-AB81-D74F65A67FFD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31" name="Picture 4" descr="background wh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233" name="Picture 6" descr="background copy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DDEB-B5E2-4BAF-8027-43E80A6673AA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Otdih-6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" descr="lg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6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104" name="Rectangle 11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57D7A77-8816-47DE-BD89-82B3A3AC87F3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1" lang="en-US" sz="12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</p:grpSp>
      <p:pic>
        <p:nvPicPr>
          <p:cNvPr id="106" name="Picture 18" descr="eyes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B563-D14D-40CD-9703-BC5210333DA4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108" name="Picture 9" descr="_1923616_theft300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648320" y="914400"/>
            <a:ext cx="3124080" cy="240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м больше человек уста, тем больше происшестви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сталость равноценна алкогольному опьянению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то влияет на то, как мы думаем, на наше суждение и на наши функци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Рчень важно, что мы делаем в это время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2139-EFFB-4500-8C36-D61B816FD74A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2361960"/>
            <a:ext cx="8458200" cy="32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1. Принятие решения, выбор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2.Суждение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3.Инициатив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4.Творчество (способность на 1 вопрос смотреть с разных сторон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5.Видение будущего (понимание эффективности наперед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8088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октор Билинки определил 5 мыслительных способностей,  на которые влияет недостаток отдых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6A14-5193-4285-9A34-E298590943F8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116" name="Picture 7" descr="sleep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120" name="Rectangle 10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00"/>
                </a:solidFill>
                <a:latin typeface="BernhardMod BT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EBEBAE1-23B3-4C12-91FE-0C817F084BD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1" lang="en-US" sz="1400" spc="-1" strike="noStrike">
                <a:solidFill>
                  <a:srgbClr val="ffff00"/>
                </a:solidFill>
                <a:latin typeface="BernhardMod BT"/>
              </a:endParaRPr>
            </a:p>
          </p:txBody>
        </p:sp>
      </p:grpSp>
      <p:pic>
        <p:nvPicPr>
          <p:cNvPr id="122" name="Picture 13" descr="Рисунок3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25B6-858F-4017-8263-0E6FAB241D1F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126" name="Picture 25" descr="sleep-smhr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7" name="Picture 27" descr="vacations-3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1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7CB1-2E35-49D2-8B01-549002C38D3E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1" lang="en-US" sz="28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1" lang="en-US" sz="4400" spc="-1" strike="noStrike">
              <a:solidFill>
                <a:srgbClr val="ffff00"/>
              </a:solidFill>
              <a:latin typeface="BernhardMod BT"/>
            </a:endParaRPr>
          </a:p>
        </p:txBody>
      </p:sp>
      <p:pic>
        <p:nvPicPr>
          <p:cNvPr id="132" name="Picture 162" descr="heart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4" descr="brain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94C4-EB26-4958-B6DD-D326C1428CC2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BernhardMod B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36" name="Picture 7" descr="SJ06128E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Admin</cp:lastModifiedBy>
  <cp:lastPrinted>2001-03-16T17:28:39Z</cp:lastPrinted>
  <dcterms:modified xsi:type="dcterms:W3CDTF">2015-11-12T16:42:41Z</dcterms:modified>
  <cp:revision>724</cp:revision>
  <dc:subject/>
  <dc:title>CELEBRATIONS</dc:title>
</cp:coreProperties>
</file>